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108-8949-4B0B-B0B6-8109F44A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E25-856C-40B0-8BE6-52C36102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11B-72BB-47EE-800B-C65A7E00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07E-A40F-488F-B07F-C40968CA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4ED5-FE91-4136-B656-AD5849E4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F3BB-FBC8-4189-9990-C67C3AC9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1CC5-CFA8-4CEA-95EC-E6C2FB9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692B-5B4E-49ED-AA5D-8CC70E83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AE50-40A1-44F8-AEE5-0D91DB43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C698-C1EF-480C-91CC-D5B29607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432E-F3FF-48F5-BBB8-338A5D5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2A2-F250-4FFE-B6D5-67A899FA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287B-123D-4115-A6B2-FE1ACC60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4A7-A3B9-4134-891A-BCC72C2C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B64D-3BCD-41DA-81AD-B1AADD16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18A6-7DCB-477D-8FF6-778ABE0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D8AD-81E0-4E3E-83EA-0D4BE763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55E-4020-4071-9FDE-38F939C4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6C9-3CCE-4AB1-8998-6A6D58F2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C37-3EFD-4184-9AED-CC319011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371-C094-4C07-8D02-DFE746AE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BA0-C504-4D00-BCC8-1C9EAEB2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E56-A0B2-4233-A927-436713B1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4F6-A324-4DAB-AA1D-2358B4A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D4C2-0FBF-4629-9DC0-5A7B9E238AE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019F-6A49-4069-933A-25A5CAF38BE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ила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орожного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движения для малыш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5" descr="0_a4fe2_6fd873d0_XL"/>
          <p:cNvPicPr/>
          <p:nvPr/>
        </p:nvPicPr>
        <p:blipFill>
          <a:blip r:embed="rId1"/>
          <a:stretch/>
        </p:blipFill>
        <p:spPr>
          <a:xfrm>
            <a:off x="3235320" y="1981080"/>
            <a:ext cx="320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916360" y="2709000"/>
            <a:ext cx="606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пособ безопасный самы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ерейти дорогу с ма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ж она не подвед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с за ручку довед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о гораздо будет лучш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Если нас она науч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к без бед и по у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делать это сам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siostra"/>
          <p:cNvPicPr/>
          <p:nvPr/>
        </p:nvPicPr>
        <p:blipFill>
          <a:blip r:embed="rId1"/>
          <a:stretch/>
        </p:blipFill>
        <p:spPr>
          <a:xfrm>
            <a:off x="3924360" y="115920"/>
            <a:ext cx="3851280" cy="255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siostra"/>
          <p:cNvPicPr/>
          <p:nvPr/>
        </p:nvPicPr>
        <p:blipFill>
          <a:blip r:embed="rId2"/>
          <a:srcRect l="71155" t="64319" r="0" b="0"/>
          <a:stretch/>
        </p:blipFill>
        <p:spPr>
          <a:xfrm>
            <a:off x="395280" y="4076640"/>
            <a:ext cx="2305080" cy="24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vetofor"/>
          <p:cNvPicPr/>
          <p:nvPr/>
        </p:nvPicPr>
        <p:blipFill>
          <a:blip r:embed="rId3"/>
          <a:stretch/>
        </p:blipFill>
        <p:spPr>
          <a:xfrm>
            <a:off x="468360" y="3789360"/>
            <a:ext cx="2525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ltr-lc30_xl"/>
          <p:cNvPicPr/>
          <p:nvPr/>
        </p:nvPicPr>
        <p:blipFill>
          <a:blip r:embed="rId1"/>
          <a:srcRect l="2205" t="2205" r="0" b="6520"/>
          <a:stretch/>
        </p:blipFill>
        <p:spPr>
          <a:xfrm>
            <a:off x="179280" y="3284640"/>
            <a:ext cx="3527640" cy="3292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572000" y="2990880"/>
            <a:ext cx="41799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Транспорт разный на дорог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Легковой и грузово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Государственный и частны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ассажирский городс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7" descr="1277372349_101616698_1----42191--1277372349"/>
          <p:cNvPicPr/>
          <p:nvPr/>
        </p:nvPicPr>
        <p:blipFill>
          <a:blip r:embed="rId2"/>
          <a:stretch/>
        </p:blipFill>
        <p:spPr>
          <a:xfrm>
            <a:off x="179280" y="115920"/>
            <a:ext cx="5329440" cy="319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груз"/>
          <p:cNvPicPr/>
          <p:nvPr/>
        </p:nvPicPr>
        <p:blipFill>
          <a:blip r:embed="rId3"/>
          <a:srcRect l="10758" t="6047" r="4989" b="6689"/>
          <a:stretch/>
        </p:blipFill>
        <p:spPr>
          <a:xfrm>
            <a:off x="5435640" y="115920"/>
            <a:ext cx="37083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51181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ahoma"/>
              </a:rPr>
              <a:t>Спецтранспорт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250920" y="432360"/>
            <a:ext cx="3598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шат по дорогам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ашины, машины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ише ход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по дорог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цтранспорт идёт!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Должны  уступ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се им дор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спешат к люд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и на подмогу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У спецмашины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ложна и трудна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Но как она людям 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всюду нужн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1358"/>
          <p:cNvPicPr/>
          <p:nvPr/>
        </p:nvPicPr>
        <p:blipFill>
          <a:blip r:embed="rId1"/>
          <a:srcRect l="9598" t="26380" r="6945" b="20120"/>
          <a:stretch/>
        </p:blipFill>
        <p:spPr>
          <a:xfrm>
            <a:off x="3708360" y="3213000"/>
            <a:ext cx="54356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jkjl"/>
          <p:cNvPicPr/>
          <p:nvPr/>
        </p:nvPicPr>
        <p:blipFill>
          <a:blip r:embed="rId1"/>
          <a:stretch/>
        </p:blipFill>
        <p:spPr>
          <a:xfrm>
            <a:off x="2843280" y="2133720"/>
            <a:ext cx="5734080" cy="45115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2500920" y="257400"/>
            <a:ext cx="61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сторонитесь! Дорогу! Дорогу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корая помощь летит на подмогу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риказ постового: "Стоять! Хода нет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олько для "Скорой" Зеленый свет!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iliciya(1)"/>
          <p:cNvPicPr/>
          <p:nvPr/>
        </p:nvPicPr>
        <p:blipFill>
          <a:blip r:embed="rId1"/>
          <a:stretch/>
        </p:blipFill>
        <p:spPr>
          <a:xfrm>
            <a:off x="2268360" y="2276640"/>
            <a:ext cx="6409080" cy="4273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2340000" y="160920"/>
            <a:ext cx="63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лицейская маш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м мелькает глазом сини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А её сирены зв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ышен далеко вокр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acp66"/>
          <p:cNvPicPr/>
          <p:nvPr/>
        </p:nvPicPr>
        <p:blipFill>
          <a:blip r:embed="rId1"/>
          <a:stretch/>
        </p:blipFill>
        <p:spPr>
          <a:xfrm>
            <a:off x="1835280" y="1916280"/>
            <a:ext cx="6900840" cy="4760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2268360" y="186840"/>
            <a:ext cx="54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чат пожарные машины. 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 них отважные мужчи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 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Едут быстро на пожар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беждать огонь и ж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7" descr="000011"/>
          <p:cNvPicPr/>
          <p:nvPr/>
        </p:nvPicPr>
        <p:blipFill>
          <a:blip r:embed="rId1"/>
          <a:srcRect l="8618" t="2476" r="11425" b="3650"/>
          <a:stretch/>
        </p:blipFill>
        <p:spPr>
          <a:xfrm>
            <a:off x="6300720" y="189000"/>
            <a:ext cx="2665440" cy="5472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1619280" y="140760"/>
            <a:ext cx="3848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площадей и перекрестков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меня глядит в упор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виду грозный и серьезны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олговязый светофо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 вежливый, и строгий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звестен на весь мир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на улице широки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амый главный команди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У него глаза цветные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 глаза, а три огня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по очереди ими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мотрит сверху на мен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его конечно знаю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а и как его не знать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отлично понимаю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Все, что хочет он сказат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33810e682165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808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395280" y="15768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олосатый переход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ешеходов разных ждет: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коляской мама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собачкой дама,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5003640" y="189000"/>
            <a:ext cx="3861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сет малыш иг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тарик ведет ста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ве девочки идут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ашины смирно жду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2e0c04edb8fd"/>
          <p:cNvPicPr/>
          <p:nvPr/>
        </p:nvPicPr>
        <p:blipFill>
          <a:blip r:embed="rId1"/>
          <a:stretch/>
        </p:blipFill>
        <p:spPr>
          <a:xfrm>
            <a:off x="971640" y="1844640"/>
            <a:ext cx="381636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4788000" y="799920"/>
            <a:ext cx="396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Делаем ребятам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едостережени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Выучите срочно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АВИЛА ДВИЖЕНИЯ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не волнов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ждый день родител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спокойно мч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лицей водител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63280" y="1915920"/>
            <a:ext cx="61023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Презентацию подготовила Большакова Ольга Николаевна – воспитатель первой квалификационной катего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8" descr="62907538_474167l68h9nknqq"/>
          <p:cNvPicPr/>
          <p:nvPr/>
        </p:nvPicPr>
        <p:blipFill>
          <a:blip r:embed="rId1"/>
          <a:stretch/>
        </p:blipFill>
        <p:spPr>
          <a:xfrm>
            <a:off x="5435640" y="260280"/>
            <a:ext cx="3529080" cy="1355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62907538_474167l68h9nknqq"/>
          <p:cNvPicPr/>
          <p:nvPr/>
        </p:nvPicPr>
        <p:blipFill>
          <a:blip r:embed="rId2"/>
          <a:stretch/>
        </p:blipFill>
        <p:spPr>
          <a:xfrm rot="16200000">
            <a:off x="-429840" y="4903920"/>
            <a:ext cx="2448000" cy="939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62907538_474167l68h9nknqq"/>
          <p:cNvPicPr/>
          <p:nvPr/>
        </p:nvPicPr>
        <p:blipFill>
          <a:blip r:embed="rId3"/>
          <a:stretch/>
        </p:blipFill>
        <p:spPr>
          <a:xfrm>
            <a:off x="1763640" y="476280"/>
            <a:ext cx="2087640" cy="801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62907538_474167l68h9nknqq"/>
          <p:cNvPicPr/>
          <p:nvPr/>
        </p:nvPicPr>
        <p:blipFill>
          <a:blip r:embed="rId4"/>
          <a:stretch/>
        </p:blipFill>
        <p:spPr>
          <a:xfrm>
            <a:off x="7093080" y="5419800"/>
            <a:ext cx="1942920" cy="74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62907538_474167l68h9nknqq"/>
          <p:cNvPicPr/>
          <p:nvPr/>
        </p:nvPicPr>
        <p:blipFill>
          <a:blip r:embed="rId5"/>
          <a:stretch/>
        </p:blipFill>
        <p:spPr>
          <a:xfrm>
            <a:off x="2627280" y="5950080"/>
            <a:ext cx="28814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30006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Изучаем правила дорожного движени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4" descr="1293397147_dorozhn-fon"/>
          <p:cNvPicPr/>
          <p:nvPr/>
        </p:nvPicPr>
        <p:blipFill>
          <a:blip r:embed="rId1"/>
          <a:stretch/>
        </p:blipFill>
        <p:spPr>
          <a:xfrm>
            <a:off x="4227480" y="333360"/>
            <a:ext cx="4743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84360" y="864360"/>
            <a:ext cx="374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егулирует движ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ожное приспособл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д названьем СВЕТОФ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ветит ярко он нам с вами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азноцветными огням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И про них наш разгов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5003640" y="307800"/>
            <a:ext cx="361656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468360" y="1579680"/>
            <a:ext cx="439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Загорелся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красный Свет,</a:t>
            </a: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Это значит – хода нет.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ветофор сигналит строго: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«Не ходите на дорогу!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5132520" y="463680"/>
            <a:ext cx="38955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6135813_imgi7196w640"/>
          <p:cNvPicPr/>
          <p:nvPr/>
        </p:nvPicPr>
        <p:blipFill>
          <a:blip r:embed="rId1"/>
          <a:srcRect l="14443" t="2839" r="30758" b="3078"/>
          <a:stretch/>
        </p:blipFill>
        <p:spPr>
          <a:xfrm>
            <a:off x="5878440" y="189000"/>
            <a:ext cx="2828880" cy="6480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050920" y="777600"/>
            <a:ext cx="288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Если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елтый свет горит</a:t>
            </a: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,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Подождать он нам вели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zheltyi-signal-svetofora-0000950235-preview"/>
          <p:cNvPicPr/>
          <p:nvPr/>
        </p:nvPicPr>
        <p:blipFill>
          <a:blip r:embed="rId2"/>
          <a:srcRect l="13644" t="14360" r="9856" b="11920"/>
          <a:stretch/>
        </p:blipFill>
        <p:spPr>
          <a:xfrm>
            <a:off x="250920" y="4365720"/>
            <a:ext cx="1920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250920" y="271080"/>
            <a:ext cx="460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А когда </a:t>
            </a:r>
            <a:r>
              <a:rPr b="1" lang="ru-RU" sz="4000" spc="-1" strike="noStrike">
                <a:solidFill>
                  <a:srgbClr val="33cc33"/>
                </a:solidFill>
                <a:latin typeface="Tahoma"/>
              </a:rPr>
              <a:t>горит зелёный,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Это значит – путь свободный.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Светофор вам говорит: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«Переход для вас открыт!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rcRect l="0" t="13823" r="0" b="13823"/>
          <a:stretch/>
        </p:blipFill>
        <p:spPr>
          <a:xfrm>
            <a:off x="4865760" y="1052640"/>
            <a:ext cx="4227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339e42e7119a6a4eb028cc49458a0c8f6dad4488218811"/>
          <p:cNvPicPr/>
          <p:nvPr/>
        </p:nvPicPr>
        <p:blipFill>
          <a:blip r:embed="rId1"/>
          <a:srcRect l="25907" t="0" r="24384" b="-1512"/>
          <a:stretch/>
        </p:blipFill>
        <p:spPr>
          <a:xfrm>
            <a:off x="6012000" y="189000"/>
            <a:ext cx="271440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1476360" y="835560"/>
            <a:ext cx="403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У любого перекрёстка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Нас встречает светофор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И заводит очень просто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 пешеходом разговор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356000" y="115560"/>
            <a:ext cx="417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Полосатая лошад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вам подскажет на пу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Где дорогу перейти... </a:t>
            </a:r>
            <a:br>
              <a:rPr sz="2800"/>
            </a:br>
            <a:r>
              <a:rPr b="1" lang="ru-RU" sz="1400" spc="-1" strike="noStrike">
                <a:solidFill>
                  <a:srgbClr val="66ccff"/>
                </a:solidFill>
                <a:latin typeface="Tahoma"/>
              </a:rPr>
              <a:t>(Пешеходный переход - "Зебра") </a:t>
            </a:r>
            <a:br>
              <a:rPr sz="1400"/>
            </a:b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img1"/>
          <p:cNvPicPr/>
          <p:nvPr/>
        </p:nvPicPr>
        <p:blipFill>
          <a:blip r:embed="rId1"/>
          <a:srcRect l="5914" t="3751" r="4014" b="1748"/>
          <a:stretch/>
        </p:blipFill>
        <p:spPr>
          <a:xfrm>
            <a:off x="1403280" y="115920"/>
            <a:ext cx="2649600" cy="2881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50920" y="460044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330026694634_66125_peshexod-2"/>
          <p:cNvPicPr/>
          <p:nvPr/>
        </p:nvPicPr>
        <p:blipFill>
          <a:blip r:embed="rId2"/>
          <a:stretch/>
        </p:blipFill>
        <p:spPr>
          <a:xfrm>
            <a:off x="5076720" y="2637000"/>
            <a:ext cx="3916440" cy="4049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250920" y="2842920"/>
            <a:ext cx="3960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пути ребят – дорога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ранспорт ездит быстро, много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ветофора рядом нет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Знак дорожный даст совет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до, чуть вперед пройти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ам, где «Зебра» на пути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«Пешеходный переход» –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ожно двигаться вперед.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66ccff"/>
                </a:solidFill>
                <a:latin typeface="Tahoma"/>
              </a:rPr>
              <a:t>«ПЕШЕХОДНЫЙ ПЕРЕХОД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3432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Это очень важный знак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 висит не просто так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Будь внимательней, шофер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Рядом садик, школьный двор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(Предупреждающий знак «Дети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vnimanie deti"/>
          <p:cNvPicPr/>
          <p:nvPr/>
        </p:nvPicPr>
        <p:blipFill>
          <a:blip r:embed="rId1"/>
          <a:srcRect l="6280" t="1598" r="4252" b="764"/>
          <a:stretch/>
        </p:blipFill>
        <p:spPr>
          <a:xfrm>
            <a:off x="3780000" y="620640"/>
            <a:ext cx="5113080" cy="446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detia-148"/>
          <p:cNvPicPr/>
          <p:nvPr/>
        </p:nvPicPr>
        <p:blipFill>
          <a:blip r:embed="rId2"/>
          <a:stretch/>
        </p:blipFill>
        <p:spPr>
          <a:xfrm>
            <a:off x="1187280" y="189000"/>
            <a:ext cx="15638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5:19:09Z</dcterms:created>
  <dc:creator>й</dc:creator>
  <dc:description/>
  <dc:language>en-US</dc:language>
  <cp:lastModifiedBy>Windows User</cp:lastModifiedBy>
  <dcterms:modified xsi:type="dcterms:W3CDTF">2018-06-16T06:39:39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