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C5E-8CDF-40C7-A901-19CFC2D7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5FF-5BB5-459F-AFAD-AE38030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2D8-AA32-4471-AD05-6FDBC56E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1A5-C41C-45CF-A699-010D1F76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811-05C6-45EB-9FBF-00801A5E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0F9-54C0-4A71-9E0F-359C073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98D-18C6-4773-BE1B-655F3D7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766-C1BB-418D-A028-E4A179D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75-C0E4-4FA2-9F09-020FF3BF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440-078E-4AFD-9854-D98ACCD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68E-1AEA-4B30-AE25-B66E603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6B2-A405-4444-BDB7-6A296FA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944A-277A-4A7B-86D3-F8148A48C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533520"/>
            <a:ext cx="6248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7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ШПАРГАЛКИ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7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7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(по русскому языку, 1 кл.)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7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848720" y="5715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623f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3880" y="1522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НЫЕ  СО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990720"/>
            <a:ext cx="8382240" cy="11912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76dc76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проверить звонкую или глухую парную согласную, измени слово так, чтоб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с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гласной стояла глас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7432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и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гри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б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сто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сто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б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верё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 – верё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ка      д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 - д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д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10280" y="2590920"/>
            <a:ext cx="171000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523880"/>
            <a:ext cx="3276720" cy="1557000"/>
          </a:xfrm>
          <a:prstGeom prst="rect">
            <a:avLst/>
          </a:prstGeom>
          <a:gradFill rotWithShape="0">
            <a:gsLst>
              <a:gs pos="0">
                <a:srgbClr val="e1a6e2"/>
              </a:gs>
              <a:gs pos="50000">
                <a:srgbClr val="ebc7ec"/>
              </a:gs>
              <a:gs pos="100000">
                <a:srgbClr val="e1a6e2"/>
              </a:gs>
            </a:gsLst>
            <a:lin ang="5400000"/>
          </a:gra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имя существитель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душевлен. или неодушев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04760" y="83808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657600"/>
            <a:ext cx="3124080" cy="520560"/>
          </a:xfrm>
          <a:prstGeom prst="rect">
            <a:avLst/>
          </a:prstGeom>
          <a:gradFill rotWithShape="0">
            <a:gsLst>
              <a:gs pos="0">
                <a:srgbClr val="e1a6e2"/>
              </a:gs>
              <a:gs pos="50000">
                <a:srgbClr val="e9c0ea"/>
              </a:gs>
              <a:gs pos="100000">
                <a:srgbClr val="e1a6e2"/>
              </a:gs>
            </a:gsLst>
            <a:lin ang="5400000"/>
          </a:gra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? 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200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1523880"/>
            <a:ext cx="2895480" cy="825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aeeaae"/>
              </a:gs>
              <a:gs pos="100000">
                <a:srgbClr val="33cc3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971800"/>
            <a:ext cx="2514600" cy="1861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aeeaae"/>
              </a:gs>
              <a:gs pos="100000">
                <a:srgbClr val="33cc3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й?        какая?        какое?        какие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914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838080"/>
            <a:ext cx="19047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523880"/>
            <a:ext cx="2057400" cy="459720"/>
          </a:xfrm>
          <a:prstGeom prst="rect">
            <a:avLst/>
          </a:prstGeom>
          <a:gradFill rotWithShape="0">
            <a:gsLst>
              <a:gs pos="0">
                <a:srgbClr val="59b4dd"/>
              </a:gs>
              <a:gs pos="50000">
                <a:srgbClr val="b9deef"/>
              </a:gs>
              <a:gs pos="100000">
                <a:srgbClr val="59b4dd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971800"/>
            <a:ext cx="2438640" cy="1373760"/>
          </a:xfrm>
          <a:prstGeom prst="rect">
            <a:avLst/>
          </a:prstGeom>
          <a:gradFill rotWithShape="0">
            <a:gsLst>
              <a:gs pos="0">
                <a:srgbClr val="3fb1ff"/>
              </a:gs>
              <a:gs pos="50000">
                <a:srgbClr val="b3dffe"/>
              </a:gs>
              <a:gs pos="100000">
                <a:srgbClr val="3fb1ff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елать? что делал? что дел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43800" y="171360"/>
            <a:ext cx="1447920" cy="1094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85800" y="49528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ЯЧ                        КРУГЛЫЙ             СКАЧЕТ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ВЕТОК                 НЕЖНЫЙ              ПАХНЕТ ТРАВА                   ЗЕЛЁНАЯ              РАСТЁ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81080" y="1522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ВУКИ И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2514600"/>
            <a:ext cx="3581280" cy="1295280"/>
            <a:chOff x="533520" y="2514600"/>
            <a:chExt cx="3581280" cy="1295280"/>
          </a:xfrm>
        </p:grpSpPr>
        <p:sp>
          <p:nvSpPr>
            <p:cNvPr id="208" name=""/>
            <p:cNvSpPr/>
            <p:nvPr/>
          </p:nvSpPr>
          <p:spPr>
            <a:xfrm>
              <a:off x="533520" y="2514600"/>
              <a:ext cx="3581280" cy="12952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480" y="3060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ента бук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3520" y="1143000"/>
            <a:ext cx="3733200" cy="1219320"/>
            <a:chOff x="533520" y="1143000"/>
            <a:chExt cx="3733200" cy="1219320"/>
          </a:xfrm>
        </p:grpSpPr>
        <p:sp>
          <p:nvSpPr>
            <p:cNvPr id="211" name=""/>
            <p:cNvSpPr/>
            <p:nvPr/>
          </p:nvSpPr>
          <p:spPr>
            <a:xfrm>
              <a:off x="533520" y="1143000"/>
              <a:ext cx="3733200" cy="121932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520" y="1656000"/>
              <a:ext cx="31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лфав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33520" y="3962520"/>
            <a:ext cx="3733200" cy="1218960"/>
            <a:chOff x="533520" y="3962520"/>
            <a:chExt cx="3733200" cy="1218960"/>
          </a:xfrm>
        </p:grpSpPr>
        <p:sp>
          <p:nvSpPr>
            <p:cNvPr id="214" name=""/>
            <p:cNvSpPr/>
            <p:nvPr/>
          </p:nvSpPr>
          <p:spPr>
            <a:xfrm>
              <a:off x="533520" y="3962520"/>
              <a:ext cx="3733200" cy="1218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520" y="4282920"/>
              <a:ext cx="3167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330880" y="990720"/>
            <a:ext cx="307332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5" action="ppaction://hlinksldjump"/>
          </p:cNvPr>
          <p:cNvSpPr/>
          <p:nvPr/>
        </p:nvSpPr>
        <p:spPr>
          <a:xfrm>
            <a:off x="32767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6" action="ppaction://hlinksldjump"/>
          </p:cNvPr>
          <p:cNvSpPr/>
          <p:nvPr/>
        </p:nvSpPr>
        <p:spPr>
          <a:xfrm>
            <a:off x="3200400" y="3276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3352680" y="4572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09480" y="5410080"/>
            <a:ext cx="3581280" cy="1219320"/>
            <a:chOff x="609480" y="5410080"/>
            <a:chExt cx="3581280" cy="1219320"/>
          </a:xfrm>
        </p:grpSpPr>
        <p:sp>
          <p:nvSpPr>
            <p:cNvPr id="221" name=""/>
            <p:cNvSpPr/>
            <p:nvPr/>
          </p:nvSpPr>
          <p:spPr>
            <a:xfrm>
              <a:off x="609480" y="5410080"/>
              <a:ext cx="3581280" cy="121932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440" y="5923440"/>
              <a:ext cx="3048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838080" y="4495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52280"/>
          <a:ext cx="9144000" cy="6019920"/>
        </p:xfrm>
        <a:graphic>
          <a:graphicData uri="http://schemas.openxmlformats.org/drawingml/2006/table">
            <a:tbl>
              <a:tblPr/>
              <a:tblGrid>
                <a:gridCol w="1387440"/>
                <a:gridCol w="1693800"/>
                <a:gridCol w="1671840"/>
                <a:gridCol w="1617480"/>
                <a:gridCol w="1386000"/>
                <a:gridCol w="138744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 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 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 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 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 ё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 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 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 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 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 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 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 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 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 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 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 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 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Х 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 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 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Ш ш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Щ щ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ъ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 э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 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 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укв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6201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82296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152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НТА  БУ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2133720"/>
          <a:ext cx="8839440" cy="1574640"/>
        </p:xfrm>
        <a:graphic>
          <a:graphicData uri="http://schemas.openxmlformats.org/drawingml/2006/table">
            <a:tbl>
              <a:tblPr/>
              <a:tblGrid>
                <a:gridCol w="420840"/>
                <a:gridCol w="341280"/>
                <a:gridCol w="501480"/>
                <a:gridCol w="489240"/>
                <a:gridCol w="350640"/>
                <a:gridCol w="422280"/>
                <a:gridCol w="420840"/>
                <a:gridCol w="420480"/>
                <a:gridCol w="422280"/>
                <a:gridCol w="420840"/>
                <a:gridCol w="419040"/>
                <a:gridCol w="420840"/>
                <a:gridCol w="422280"/>
                <a:gridCol w="420480"/>
                <a:gridCol w="420840"/>
                <a:gridCol w="422280"/>
                <a:gridCol w="420480"/>
                <a:gridCol w="419400"/>
                <a:gridCol w="349200"/>
                <a:gridCol w="493560"/>
                <a:gridCol w="4208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rot="5400000">
            <a:off x="5257800" y="761760"/>
            <a:ext cx="380880" cy="6324480"/>
          </a:xfrm>
          <a:custGeom>
            <a:avLst/>
            <a:gdLst>
              <a:gd name="textAreaLeft" fmla="*/ 0 w 380880"/>
              <a:gd name="textAreaRight" fmla="*/ 137520 w 380880"/>
              <a:gd name="textAreaTop" fmla="*/ 164880 h 6324480"/>
              <a:gd name="textAreaBottom" fmla="*/ 6159600 h 632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114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глас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в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990000" y="914040"/>
            <a:ext cx="381240" cy="2057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09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с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в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8686440" y="175248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990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77724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1522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УКВЫ, ОБОЗНАЧАЮЩИЕ ГЛАС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600200"/>
          <a:ext cx="4114800" cy="2158920"/>
        </p:xfrm>
        <a:graphic>
          <a:graphicData uri="http://schemas.openxmlformats.org/drawingml/2006/table">
            <a:tbl>
              <a:tblPr/>
              <a:tblGrid>
                <a:gridCol w="822240"/>
                <a:gridCol w="854280"/>
                <a:gridCol w="795240"/>
                <a:gridCol w="957240"/>
                <a:gridCol w="685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4724280" y="2819520"/>
            <a:ext cx="4191120" cy="761760"/>
          </a:xfrm>
          <a:prstGeom prst="leftArrowCallout">
            <a:avLst>
              <a:gd name="adj1" fmla="val 25002"/>
              <a:gd name="adj2" fmla="val 25000"/>
              <a:gd name="adj3" fmla="val 64596"/>
              <a:gd name="adj4" fmla="val 82961"/>
            </a:avLst>
          </a:prstGeom>
          <a:gradFill rotWithShape="0">
            <a:gsLst>
              <a:gs pos="0">
                <a:srgbClr val="33cc33"/>
              </a:gs>
              <a:gs pos="50000">
                <a:srgbClr val="8de18d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76960" y="274320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ают мягкость согл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05480" y="1752480"/>
            <a:ext cx="4309920" cy="762120"/>
          </a:xfrm>
          <a:prstGeom prst="leftArrowCallout">
            <a:avLst>
              <a:gd name="adj1" fmla="val 25002"/>
              <a:gd name="adj2" fmla="val 25000"/>
              <a:gd name="adj3" fmla="val 66396"/>
              <a:gd name="adj4" fmla="val 82961"/>
            </a:avLst>
          </a:prstGeom>
          <a:gradFill rotWithShape="0">
            <a:gsLst>
              <a:gs pos="0">
                <a:srgbClr val="33ccff"/>
              </a:gs>
              <a:gs pos="50000">
                <a:srgbClr val="8de1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167652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ают твёрдость согл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5080" y="3839040"/>
            <a:ext cx="660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значаю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два зву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если: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7560" y="4343040"/>
            <a:ext cx="40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, ка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, ка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а, 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703440" y="5562000"/>
            <a:ext cx="61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, 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4038480"/>
            <a:ext cx="2666880" cy="3689280"/>
          </a:xfrm>
          <a:prstGeom prst="rect">
            <a:avLst/>
          </a:prstGeom>
          <a:gradFill rotWithShape="0">
            <a:gsLst>
              <a:gs pos="0">
                <a:srgbClr val="dcec40"/>
              </a:gs>
              <a:gs pos="50000">
                <a:srgbClr val="f0f6b3"/>
              </a:gs>
              <a:gs pos="100000">
                <a:srgbClr val="dcec40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помн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укв – 10                                                          звуков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219320" y="1522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УКВЫ,  ОБОЗНАЧАЮЩИЕ СОГЛАС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8600" y="2362320"/>
          <a:ext cx="6324480" cy="1346040"/>
        </p:xfrm>
        <a:graphic>
          <a:graphicData uri="http://schemas.openxmlformats.org/drawingml/2006/table">
            <a:tbl>
              <a:tblPr/>
              <a:tblGrid>
                <a:gridCol w="422280"/>
                <a:gridCol w="422280"/>
                <a:gridCol w="420840"/>
                <a:gridCol w="423720"/>
                <a:gridCol w="368280"/>
                <a:gridCol w="380880"/>
                <a:gridCol w="513000"/>
                <a:gridCol w="422280"/>
                <a:gridCol w="422280"/>
                <a:gridCol w="471240"/>
                <a:gridCol w="371520"/>
                <a:gridCol w="422280"/>
                <a:gridCol w="419040"/>
                <a:gridCol w="387360"/>
                <a:gridCol w="4572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629400" y="2514600"/>
            <a:ext cx="2286000" cy="457200"/>
          </a:xfrm>
          <a:prstGeom prst="leftArrowCallout">
            <a:avLst>
              <a:gd name="adj1" fmla="val 25002"/>
              <a:gd name="adj2" fmla="val 25000"/>
              <a:gd name="adj3" fmla="val 53519"/>
              <a:gd name="adj4" fmla="val 79799"/>
            </a:avLst>
          </a:prstGeom>
          <a:gradFill rotWithShape="0">
            <a:gsLst>
              <a:gs pos="0">
                <a:srgbClr val="ff9900"/>
              </a:gs>
              <a:gs pos="50000">
                <a:srgbClr val="fed8a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он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200400"/>
            <a:ext cx="2286000" cy="457200"/>
          </a:xfrm>
          <a:prstGeom prst="leftArrowCallout">
            <a:avLst>
              <a:gd name="adj1" fmla="val 25002"/>
              <a:gd name="adj2" fmla="val 25000"/>
              <a:gd name="adj3" fmla="val 53519"/>
              <a:gd name="adj4" fmla="val 79799"/>
            </a:avLst>
          </a:prstGeom>
          <a:gradFill rotWithShape="0">
            <a:gsLst>
              <a:gs pos="0">
                <a:srgbClr val="ff9900"/>
              </a:gs>
              <a:gs pos="50000">
                <a:srgbClr val="fed8a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733920"/>
            <a:ext cx="2514600" cy="914400"/>
          </a:xfrm>
          <a:prstGeom prst="upArrowCallout">
            <a:avLst>
              <a:gd name="adj1" fmla="val 12503"/>
              <a:gd name="adj2" fmla="val 16144"/>
              <a:gd name="adj3" fmla="val 22917"/>
              <a:gd name="adj4" fmla="val 90906"/>
            </a:avLst>
          </a:prstGeom>
          <a:gradFill rotWithShape="0">
            <a:gsLst>
              <a:gs pos="0">
                <a:srgbClr val="65dd79"/>
              </a:gs>
              <a:gs pos="50000">
                <a:srgbClr val="b4edbd"/>
              </a:gs>
              <a:gs pos="100000">
                <a:srgbClr val="65dd7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51055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егда твёрдые: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Ж, Ш, 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егда мягкие:</a:t>
            </a:r>
            <a:r>
              <a:rPr b="1" i="1" lang="en-US" sz="3200" spc="-1" strike="noStrike">
                <a:solidFill>
                  <a:srgbClr val="2fd14a"/>
                </a:solidFill>
                <a:latin typeface="Arial"/>
              </a:rPr>
              <a:t> Й, Ч, 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62320" y="228600"/>
            <a:ext cx="47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А  ПЕРЕ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193320" y="993600"/>
            <a:ext cx="918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а переноси по слог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- БИК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КУБИ – 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Слова, состоящие из одного слога, не перенос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Одну букву не переноси и не оставляй на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НЕЛЬЗЯ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 - С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С -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 Буквы Й, Ъ, Ь не перенос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А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Й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ЧИК,   ПОД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Ъ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ЕЗД,   КОН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Ь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переносе слов с удвоенными соглас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а согласная остается на стро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гая перенос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,  КОЛО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3837"/>
                </a:moveTo>
                <a:lnTo>
                  <a:pt x="15526" y="6448"/>
                </a:lnTo>
                <a:lnTo>
                  <a:pt x="15526" y="4707"/>
                </a:lnTo>
                <a:lnTo>
                  <a:pt x="17302" y="4707"/>
                </a:lnTo>
                <a:lnTo>
                  <a:pt x="17302" y="8224"/>
                </a:lnTo>
                <a:lnTo>
                  <a:pt x="19913" y="10800"/>
                </a:lnTo>
                <a:lnTo>
                  <a:pt x="18259" y="10800"/>
                </a:lnTo>
                <a:lnTo>
                  <a:pt x="18259" y="17989"/>
                </a:lnTo>
                <a:lnTo>
                  <a:pt x="7641" y="17989"/>
                </a:lnTo>
                <a:lnTo>
                  <a:pt x="7641" y="10800"/>
                </a:lnTo>
                <a:lnTo>
                  <a:pt x="5987" y="10800"/>
                </a:lnTo>
                <a:close/>
              </a:path>
              <a:path fill="darkenLess" w="25900" h="21600">
                <a:moveTo>
                  <a:pt x="15526" y="6448"/>
                </a:moveTo>
                <a:lnTo>
                  <a:pt x="15526" y="4707"/>
                </a:lnTo>
                <a:lnTo>
                  <a:pt x="17302" y="4707"/>
                </a:lnTo>
                <a:lnTo>
                  <a:pt x="17302" y="8224"/>
                </a:lnTo>
                <a:close/>
              </a:path>
              <a:path fill="darkenLess" w="25900" h="21600">
                <a:moveTo>
                  <a:pt x="12027" y="14299"/>
                </a:moveTo>
                <a:lnTo>
                  <a:pt x="13872" y="14299"/>
                </a:lnTo>
                <a:lnTo>
                  <a:pt x="13872" y="17989"/>
                </a:lnTo>
                <a:lnTo>
                  <a:pt x="18259" y="17989"/>
                </a:lnTo>
                <a:lnTo>
                  <a:pt x="18259" y="10800"/>
                </a:lnTo>
                <a:lnTo>
                  <a:pt x="7641" y="10800"/>
                </a:lnTo>
                <a:lnTo>
                  <a:pt x="7641" y="17989"/>
                </a:lnTo>
                <a:lnTo>
                  <a:pt x="1202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5257800"/>
            <a:ext cx="3047760" cy="1447920"/>
            <a:chOff x="1143000" y="5257800"/>
            <a:chExt cx="3047760" cy="1447920"/>
          </a:xfrm>
        </p:grpSpPr>
        <p:sp>
          <p:nvSpPr>
            <p:cNvPr id="45" name=""/>
            <p:cNvSpPr/>
            <p:nvPr/>
          </p:nvSpPr>
          <p:spPr>
            <a:xfrm>
              <a:off x="1143000" y="525780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43000" y="563904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езударные гла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800600" y="228600"/>
            <a:ext cx="3047760" cy="1447920"/>
            <a:chOff x="4800600" y="228600"/>
            <a:chExt cx="3047760" cy="1447920"/>
          </a:xfrm>
        </p:grpSpPr>
        <p:sp>
          <p:nvSpPr>
            <p:cNvPr id="48" name=""/>
            <p:cNvSpPr/>
            <p:nvPr/>
          </p:nvSpPr>
          <p:spPr>
            <a:xfrm>
              <a:off x="4800600" y="22860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60984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арные согла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1905120"/>
            <a:ext cx="3047760" cy="1447560"/>
            <a:chOff x="228600" y="1905120"/>
            <a:chExt cx="3047760" cy="1447560"/>
          </a:xfrm>
        </p:grpSpPr>
        <p:sp>
          <p:nvSpPr>
            <p:cNvPr id="51" name=""/>
            <p:cNvSpPr/>
            <p:nvPr/>
          </p:nvSpPr>
          <p:spPr>
            <a:xfrm>
              <a:off x="228600" y="1905120"/>
              <a:ext cx="3047760" cy="14475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" y="228600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вописание сочет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3581280"/>
            <a:ext cx="3047760" cy="1447920"/>
            <a:chOff x="228600" y="3581280"/>
            <a:chExt cx="3047760" cy="1447920"/>
          </a:xfrm>
        </p:grpSpPr>
        <p:sp>
          <p:nvSpPr>
            <p:cNvPr id="54" name=""/>
            <p:cNvSpPr/>
            <p:nvPr/>
          </p:nvSpPr>
          <p:spPr>
            <a:xfrm>
              <a:off x="228600" y="358128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3962160"/>
              <a:ext cx="258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льшая буква в им. собст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143000" y="228600"/>
            <a:ext cx="2971440" cy="1447920"/>
            <a:chOff x="1143000" y="228600"/>
            <a:chExt cx="2971440" cy="1447920"/>
          </a:xfrm>
        </p:grpSpPr>
        <p:grpSp>
          <p:nvGrpSpPr>
            <p:cNvPr id="57" name=""/>
            <p:cNvGrpSpPr/>
            <p:nvPr/>
          </p:nvGrpSpPr>
          <p:grpSpPr>
            <a:xfrm>
              <a:off x="1143000" y="228600"/>
              <a:ext cx="2971440" cy="1447920"/>
              <a:chOff x="1143000" y="228600"/>
              <a:chExt cx="2971440" cy="1447920"/>
            </a:xfrm>
          </p:grpSpPr>
          <p:sp>
            <p:nvSpPr>
              <p:cNvPr id="58" name=""/>
              <p:cNvSpPr/>
              <p:nvPr/>
            </p:nvSpPr>
            <p:spPr>
              <a:xfrm>
                <a:off x="1143000" y="228600"/>
                <a:ext cx="2971440" cy="14479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3000" y="609840"/>
                <a:ext cx="2521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297440" y="838080"/>
              <a:ext cx="22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ло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638680" y="1905120"/>
            <a:ext cx="3048120" cy="1447560"/>
            <a:chOff x="5638680" y="1905120"/>
            <a:chExt cx="3048120" cy="1447560"/>
          </a:xfrm>
        </p:grpSpPr>
        <p:sp>
          <p:nvSpPr>
            <p:cNvPr id="62" name=""/>
            <p:cNvSpPr/>
            <p:nvPr/>
          </p:nvSpPr>
          <p:spPr>
            <a:xfrm>
              <a:off x="5638680" y="1905120"/>
              <a:ext cx="3048120" cy="14475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5000" y="2514600"/>
              <a:ext cx="25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асти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0600" y="5181480"/>
            <a:ext cx="3047760" cy="1447920"/>
            <a:chOff x="4800600" y="5181480"/>
            <a:chExt cx="3047760" cy="1447920"/>
          </a:xfrm>
        </p:grpSpPr>
        <p:sp>
          <p:nvSpPr>
            <p:cNvPr id="65" name=""/>
            <p:cNvSpPr/>
            <p:nvPr/>
          </p:nvSpPr>
          <p:spPr>
            <a:xfrm>
              <a:off x="4800600" y="518148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56272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вила перен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38680" y="3581280"/>
            <a:ext cx="3047760" cy="1447920"/>
            <a:chOff x="5638680" y="3581280"/>
            <a:chExt cx="3047760" cy="1447920"/>
          </a:xfrm>
        </p:grpSpPr>
        <p:sp>
          <p:nvSpPr>
            <p:cNvPr id="68" name=""/>
            <p:cNvSpPr/>
            <p:nvPr/>
          </p:nvSpPr>
          <p:spPr>
            <a:xfrm>
              <a:off x="5638680" y="358128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3962520"/>
              <a:ext cx="258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452760" y="1752480"/>
            <a:ext cx="1878120" cy="33530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3048120" y="1219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28" h="21600">
                <a:moveTo>
                  <a:pt x="16219" y="14281"/>
                </a:moveTo>
                <a:lnTo>
                  <a:pt x="16219" y="12323"/>
                </a:lnTo>
                <a:cubicBezTo>
                  <a:pt x="16219" y="11496"/>
                  <a:pt x="16550" y="10800"/>
                  <a:pt x="17151" y="10800"/>
                </a:cubicBezTo>
                <a:cubicBezTo>
                  <a:pt x="18282" y="10800"/>
                  <a:pt x="19179" y="9434"/>
                  <a:pt x="19179" y="7849"/>
                </a:cubicBezTo>
                <a:cubicBezTo>
                  <a:pt x="19179" y="5534"/>
                  <a:pt x="17325" y="3794"/>
                  <a:pt x="15114" y="3794"/>
                </a:cubicBezTo>
                <a:cubicBezTo>
                  <a:pt x="12903" y="3794"/>
                  <a:pt x="11232" y="5534"/>
                  <a:pt x="11232" y="7849"/>
                </a:cubicBezTo>
                <a:lnTo>
                  <a:pt x="13086" y="7849"/>
                </a:lnTo>
                <a:cubicBezTo>
                  <a:pt x="13086" y="6709"/>
                  <a:pt x="14009" y="5821"/>
                  <a:pt x="15114" y="5821"/>
                </a:cubicBezTo>
                <a:cubicBezTo>
                  <a:pt x="16219" y="5821"/>
                  <a:pt x="17151" y="6709"/>
                  <a:pt x="17151" y="7849"/>
                </a:cubicBezTo>
                <a:cubicBezTo>
                  <a:pt x="17151" y="8589"/>
                  <a:pt x="16681" y="9320"/>
                  <a:pt x="16219" y="9320"/>
                </a:cubicBezTo>
                <a:cubicBezTo>
                  <a:pt x="15114" y="9320"/>
                  <a:pt x="14009" y="10800"/>
                  <a:pt x="14009" y="12323"/>
                </a:cubicBezTo>
                <a:lnTo>
                  <a:pt x="14009" y="14281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1" action="ppaction://hlinksldjump"/>
          </p:cNvPr>
          <p:cNvSpPr/>
          <p:nvPr/>
        </p:nvSpPr>
        <p:spPr>
          <a:xfrm>
            <a:off x="23623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00" h="21600">
                <a:moveTo>
                  <a:pt x="14055" y="14281"/>
                </a:moveTo>
                <a:lnTo>
                  <a:pt x="14055" y="12323"/>
                </a:lnTo>
                <a:cubicBezTo>
                  <a:pt x="14055" y="11496"/>
                  <a:pt x="14386" y="10800"/>
                  <a:pt x="14986" y="10800"/>
                </a:cubicBezTo>
                <a:cubicBezTo>
                  <a:pt x="16118" y="10800"/>
                  <a:pt x="17014" y="9434"/>
                  <a:pt x="17014" y="7849"/>
                </a:cubicBezTo>
                <a:cubicBezTo>
                  <a:pt x="17014" y="5534"/>
                  <a:pt x="15161" y="3794"/>
                  <a:pt x="12950" y="3794"/>
                </a:cubicBezTo>
                <a:cubicBezTo>
                  <a:pt x="10739" y="3794"/>
                  <a:pt x="9068" y="5534"/>
                  <a:pt x="9068" y="7849"/>
                </a:cubicBezTo>
                <a:lnTo>
                  <a:pt x="10922" y="7849"/>
                </a:lnTo>
                <a:cubicBezTo>
                  <a:pt x="10922" y="6709"/>
                  <a:pt x="11844" y="5821"/>
                  <a:pt x="12950" y="5821"/>
                </a:cubicBezTo>
                <a:cubicBezTo>
                  <a:pt x="14055" y="5821"/>
                  <a:pt x="14986" y="6709"/>
                  <a:pt x="14986" y="7849"/>
                </a:cubicBezTo>
                <a:cubicBezTo>
                  <a:pt x="14986" y="8589"/>
                  <a:pt x="14516" y="9320"/>
                  <a:pt x="14055" y="9320"/>
                </a:cubicBezTo>
                <a:cubicBezTo>
                  <a:pt x="12950" y="9320"/>
                  <a:pt x="11844" y="10800"/>
                  <a:pt x="11844" y="12323"/>
                </a:cubicBezTo>
                <a:lnTo>
                  <a:pt x="11844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2" action="ppaction://hlinksldjump"/>
          </p:cNvPr>
          <p:cNvSpPr/>
          <p:nvPr/>
        </p:nvSpPr>
        <p:spPr>
          <a:xfrm>
            <a:off x="23623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4" h="21600">
                <a:moveTo>
                  <a:pt x="14067" y="14281"/>
                </a:moveTo>
                <a:lnTo>
                  <a:pt x="14067" y="12323"/>
                </a:lnTo>
                <a:cubicBezTo>
                  <a:pt x="14067" y="11496"/>
                  <a:pt x="14398" y="10800"/>
                  <a:pt x="14999" y="10800"/>
                </a:cubicBezTo>
                <a:cubicBezTo>
                  <a:pt x="16130" y="10800"/>
                  <a:pt x="17027" y="9434"/>
                  <a:pt x="17027" y="7849"/>
                </a:cubicBezTo>
                <a:cubicBezTo>
                  <a:pt x="17027" y="5534"/>
                  <a:pt x="15173" y="3794"/>
                  <a:pt x="12962" y="3794"/>
                </a:cubicBezTo>
                <a:cubicBezTo>
                  <a:pt x="10751" y="3794"/>
                  <a:pt x="9080" y="5534"/>
                  <a:pt x="9080" y="7849"/>
                </a:cubicBezTo>
                <a:lnTo>
                  <a:pt x="10934" y="7849"/>
                </a:lnTo>
                <a:cubicBezTo>
                  <a:pt x="10934" y="6709"/>
                  <a:pt x="11857" y="5821"/>
                  <a:pt x="12962" y="5821"/>
                </a:cubicBezTo>
                <a:cubicBezTo>
                  <a:pt x="14067" y="5821"/>
                  <a:pt x="14999" y="6709"/>
                  <a:pt x="14999" y="7849"/>
                </a:cubicBezTo>
                <a:cubicBezTo>
                  <a:pt x="14999" y="8589"/>
                  <a:pt x="14529" y="9320"/>
                  <a:pt x="14067" y="9320"/>
                </a:cubicBezTo>
                <a:cubicBezTo>
                  <a:pt x="12962" y="9320"/>
                  <a:pt x="11857" y="10800"/>
                  <a:pt x="11857" y="12323"/>
                </a:cubicBezTo>
                <a:lnTo>
                  <a:pt x="11857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3" action="ppaction://hlinksldjump"/>
          </p:cNvPr>
          <p:cNvSpPr/>
          <p:nvPr/>
        </p:nvSpPr>
        <p:spPr>
          <a:xfrm>
            <a:off x="31240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48" h="21600">
                <a:moveTo>
                  <a:pt x="16229" y="14281"/>
                </a:moveTo>
                <a:lnTo>
                  <a:pt x="16229" y="12323"/>
                </a:lnTo>
                <a:cubicBezTo>
                  <a:pt x="16229" y="11496"/>
                  <a:pt x="16560" y="10800"/>
                  <a:pt x="17161" y="10800"/>
                </a:cubicBezTo>
                <a:cubicBezTo>
                  <a:pt x="18292" y="10800"/>
                  <a:pt x="19189" y="9434"/>
                  <a:pt x="19189" y="7849"/>
                </a:cubicBezTo>
                <a:cubicBezTo>
                  <a:pt x="19189" y="5534"/>
                  <a:pt x="17335" y="3794"/>
                  <a:pt x="15124" y="3794"/>
                </a:cubicBezTo>
                <a:cubicBezTo>
                  <a:pt x="12913" y="3794"/>
                  <a:pt x="11242" y="5534"/>
                  <a:pt x="11242" y="7849"/>
                </a:cubicBezTo>
                <a:lnTo>
                  <a:pt x="13096" y="7849"/>
                </a:lnTo>
                <a:cubicBezTo>
                  <a:pt x="13096" y="6709"/>
                  <a:pt x="14019" y="5821"/>
                  <a:pt x="15124" y="5821"/>
                </a:cubicBezTo>
                <a:cubicBezTo>
                  <a:pt x="16229" y="5821"/>
                  <a:pt x="17161" y="6709"/>
                  <a:pt x="17161" y="7849"/>
                </a:cubicBezTo>
                <a:cubicBezTo>
                  <a:pt x="17161" y="8589"/>
                  <a:pt x="16691" y="9320"/>
                  <a:pt x="16229" y="9320"/>
                </a:cubicBezTo>
                <a:cubicBezTo>
                  <a:pt x="15124" y="9320"/>
                  <a:pt x="14019" y="10800"/>
                  <a:pt x="14019" y="12323"/>
                </a:cubicBezTo>
                <a:lnTo>
                  <a:pt x="14019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4" action="ppaction://hlinksldjump"/>
          </p:cNvPr>
          <p:cNvSpPr/>
          <p:nvPr/>
        </p:nvSpPr>
        <p:spPr>
          <a:xfrm>
            <a:off x="6781680" y="11430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5" action="ppaction://hlinksldjump"/>
          </p:cNvPr>
          <p:cNvSpPr/>
          <p:nvPr/>
        </p:nvSpPr>
        <p:spPr>
          <a:xfrm>
            <a:off x="7696080" y="2819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6" action="ppaction://hlinksldjump"/>
          </p:cNvPr>
          <p:cNvSpPr/>
          <p:nvPr/>
        </p:nvSpPr>
        <p:spPr>
          <a:xfrm>
            <a:off x="7696080" y="4572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48" h="21600">
                <a:moveTo>
                  <a:pt x="16229" y="14281"/>
                </a:moveTo>
                <a:lnTo>
                  <a:pt x="16229" y="12323"/>
                </a:lnTo>
                <a:cubicBezTo>
                  <a:pt x="16229" y="11496"/>
                  <a:pt x="16560" y="10800"/>
                  <a:pt x="17161" y="10800"/>
                </a:cubicBezTo>
                <a:cubicBezTo>
                  <a:pt x="18292" y="10800"/>
                  <a:pt x="19189" y="9434"/>
                  <a:pt x="19189" y="7849"/>
                </a:cubicBezTo>
                <a:cubicBezTo>
                  <a:pt x="19189" y="5534"/>
                  <a:pt x="17335" y="3794"/>
                  <a:pt x="15124" y="3794"/>
                </a:cubicBezTo>
                <a:cubicBezTo>
                  <a:pt x="12913" y="3794"/>
                  <a:pt x="11242" y="5534"/>
                  <a:pt x="11242" y="7849"/>
                </a:cubicBezTo>
                <a:lnTo>
                  <a:pt x="13096" y="7849"/>
                </a:lnTo>
                <a:cubicBezTo>
                  <a:pt x="13096" y="6709"/>
                  <a:pt x="14019" y="5821"/>
                  <a:pt x="15124" y="5821"/>
                </a:cubicBezTo>
                <a:cubicBezTo>
                  <a:pt x="16229" y="5821"/>
                  <a:pt x="17161" y="6709"/>
                  <a:pt x="17161" y="7849"/>
                </a:cubicBezTo>
                <a:cubicBezTo>
                  <a:pt x="17161" y="8589"/>
                  <a:pt x="16691" y="9320"/>
                  <a:pt x="16229" y="9320"/>
                </a:cubicBezTo>
                <a:cubicBezTo>
                  <a:pt x="15124" y="9320"/>
                  <a:pt x="14019" y="10800"/>
                  <a:pt x="14019" y="12323"/>
                </a:cubicBezTo>
                <a:lnTo>
                  <a:pt x="14019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4038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уки и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0" y="1522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990720"/>
            <a:ext cx="5409720" cy="1447560"/>
            <a:chOff x="457200" y="990720"/>
            <a:chExt cx="5409720" cy="1447560"/>
          </a:xfrm>
        </p:grpSpPr>
        <p:sp>
          <p:nvSpPr>
            <p:cNvPr id="82" name=""/>
            <p:cNvSpPr/>
            <p:nvPr/>
          </p:nvSpPr>
          <p:spPr>
            <a:xfrm>
              <a:off x="457200" y="990720"/>
              <a:ext cx="5409720" cy="14475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371240"/>
              <a:ext cx="458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формление предложений на письм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600" y="4724280"/>
            <a:ext cx="5562720" cy="1447920"/>
            <a:chOff x="228600" y="4724280"/>
            <a:chExt cx="5562720" cy="1447920"/>
          </a:xfrm>
        </p:grpSpPr>
        <p:sp>
          <p:nvSpPr>
            <p:cNvPr id="85" name=""/>
            <p:cNvSpPr/>
            <p:nvPr/>
          </p:nvSpPr>
          <p:spPr>
            <a:xfrm>
              <a:off x="228600" y="4724280"/>
              <a:ext cx="556272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5334120"/>
              <a:ext cx="47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лены предложени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172200" y="1371600"/>
            <a:ext cx="2517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04920" y="2819520"/>
            <a:ext cx="5562000" cy="1447560"/>
            <a:chOff x="304920" y="2819520"/>
            <a:chExt cx="5562000" cy="144756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2819520"/>
              <a:ext cx="5562000" cy="1447560"/>
              <a:chOff x="304920" y="2819520"/>
              <a:chExt cx="5562000" cy="1447560"/>
            </a:xfrm>
          </p:grpSpPr>
          <p:sp>
            <p:nvSpPr>
              <p:cNvPr id="91" name=""/>
              <p:cNvSpPr/>
              <p:nvPr/>
            </p:nvSpPr>
            <p:spPr>
              <a:xfrm>
                <a:off x="304920" y="2819520"/>
                <a:ext cx="5562000" cy="144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4920" y="3200040"/>
                <a:ext cx="4718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33520" y="3429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язь слов в предложен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4724280" y="1828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4800600" y="3733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" action="ppaction://hlinksldjump"/>
          </p:cNvPr>
          <p:cNvSpPr/>
          <p:nvPr/>
        </p:nvSpPr>
        <p:spPr>
          <a:xfrm>
            <a:off x="4724280" y="56386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ФОРМЛЕНИЕ  ПРЕДЛОЖЕНИЙ  НА  ПИСЬ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914400"/>
            <a:ext cx="876312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7d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о предложени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се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иш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 большой бук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8610840" cy="1381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 предлож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ествова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в конце него ставитс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 небу плывут белые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352680"/>
            <a:ext cx="8610840" cy="1381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 предлож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проси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в конце него ставитс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проси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чему идёт сне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029200"/>
            <a:ext cx="8839440" cy="1747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едлож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клицательно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буди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в конце него ставитс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к красиво кругом!                                                                Берегите приро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3059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6201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ВЯЗЬ СЛОВ В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90720"/>
            <a:ext cx="8382240" cy="119124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bdeff0"/>
              </a:gs>
              <a:gs pos="100000">
                <a:srgbClr val="7f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едло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лово или несколько слов, связанные между собой по смыслу. Предложение выражает закончен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14600"/>
            <a:ext cx="8458200" cy="119124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c0f0f1"/>
              </a:gs>
              <a:gs pos="100000">
                <a:srgbClr val="7f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овосоче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 два или несколько слов, связанных между собой грамматически. Грамматическая основ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 явл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овосочет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114800"/>
            <a:ext cx="6096240" cy="144252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ccf3f3"/>
              </a:gs>
              <a:gs pos="100000">
                <a:srgbClr val="7f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 небу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лыву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белы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блак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блака (какие?) белые                                               плывут (где?) по н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7696080" y="6248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1981080"/>
            <a:ext cx="8458200" cy="4267080"/>
            <a:chOff x="228600" y="1981080"/>
            <a:chExt cx="8458200" cy="4267080"/>
          </a:xfrm>
        </p:grpSpPr>
        <p:sp>
          <p:nvSpPr>
            <p:cNvPr id="113" name=""/>
            <p:cNvSpPr/>
            <p:nvPr/>
          </p:nvSpPr>
          <p:spPr>
            <a:xfrm>
              <a:off x="228600" y="3885840"/>
              <a:ext cx="3886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о ком? или о чем? говорится   в предложении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388584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Что говорится о подлежащем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5257440"/>
              <a:ext cx="8153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По реке </a:t>
              </a:r>
              <a:r>
                <a:rPr b="0" i="1" lang="en-US" sz="3600" spc="-1" strike="noStrike" u="sng">
                  <a:solidFill>
                    <a:srgbClr val="0000ff"/>
                  </a:solidFill>
                  <a:uFillTx/>
                  <a:latin typeface="Arial"/>
                </a:rPr>
                <a:t>плыл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3600" spc="-1" strike="noStrike" u="sng">
                  <a:solidFill>
                    <a:srgbClr val="800080"/>
                  </a:solidFill>
                  <a:uFillTx/>
                  <a:latin typeface="Arial"/>
                </a:rPr>
                <a:t>теплоход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720" y="1981080"/>
              <a:ext cx="76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3300"/>
                  </a:solidFill>
                  <a:uFillTx/>
                  <a:latin typeface="Arial"/>
                </a:rPr>
                <a:t>Грамматическая осно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057040" y="274284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3200040"/>
              <a:ext cx="335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800080"/>
                  </a:solidFill>
                  <a:uFillTx/>
                  <a:latin typeface="Arial"/>
                </a:rPr>
                <a:t>подлежаще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080" y="327636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Arial"/>
                </a:rPr>
                <a:t>сказуем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2742840"/>
              <a:ext cx="7621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1280" y="609588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14400"/>
            <a:ext cx="8763120" cy="825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9be59b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ы предложения бываю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вн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грамматическая основа)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торостепенн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6960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5181480"/>
            <a:ext cx="166680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ПИСАНИЕ СОЧЕТ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685800"/>
            <a:ext cx="3962520" cy="1219320"/>
            <a:chOff x="457200" y="685800"/>
            <a:chExt cx="3962520" cy="1219320"/>
          </a:xfrm>
        </p:grpSpPr>
        <p:sp>
          <p:nvSpPr>
            <p:cNvPr id="128" name=""/>
            <p:cNvSpPr/>
            <p:nvPr/>
          </p:nvSpPr>
          <p:spPr>
            <a:xfrm>
              <a:off x="457200" y="814320"/>
              <a:ext cx="3962520" cy="1090800"/>
            </a:xfrm>
            <a:prstGeom prst="rightArrowCallout">
              <a:avLst>
                <a:gd name="adj1" fmla="val 19724"/>
                <a:gd name="adj2" fmla="val 28611"/>
                <a:gd name="adj3" fmla="val 63067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8440" y="685800"/>
              <a:ext cx="295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ш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95680" y="6858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3581280"/>
            <a:ext cx="3962520" cy="1295280"/>
            <a:chOff x="457200" y="3581280"/>
            <a:chExt cx="3962520" cy="1295280"/>
          </a:xfrm>
        </p:grpSpPr>
        <p:sp>
          <p:nvSpPr>
            <p:cNvPr id="132" name=""/>
            <p:cNvSpPr/>
            <p:nvPr/>
          </p:nvSpPr>
          <p:spPr>
            <a:xfrm>
              <a:off x="457200" y="3717720"/>
              <a:ext cx="3962520" cy="1158840"/>
            </a:xfrm>
            <a:prstGeom prst="rightArrowCallout">
              <a:avLst>
                <a:gd name="adj1" fmla="val 19724"/>
                <a:gd name="adj2" fmla="val 28611"/>
                <a:gd name="adj3" fmla="val 59364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8440" y="3581280"/>
              <a:ext cx="295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у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щ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419720" y="220968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7200" y="2057400"/>
            <a:ext cx="3962520" cy="1294920"/>
            <a:chOff x="457200" y="2057400"/>
            <a:chExt cx="3962520" cy="1294920"/>
          </a:xfrm>
        </p:grpSpPr>
        <p:sp>
          <p:nvSpPr>
            <p:cNvPr id="136" name=""/>
            <p:cNvSpPr/>
            <p:nvPr/>
          </p:nvSpPr>
          <p:spPr>
            <a:xfrm>
              <a:off x="457200" y="2193840"/>
              <a:ext cx="3962520" cy="1158480"/>
            </a:xfrm>
            <a:prstGeom prst="rightArrowCallout">
              <a:avLst>
                <a:gd name="adj1" fmla="val 19724"/>
                <a:gd name="adj2" fmla="val 28611"/>
                <a:gd name="adj3" fmla="val 59383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8440" y="2057400"/>
              <a:ext cx="295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щ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19720" y="36576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" y="5105520"/>
            <a:ext cx="3962520" cy="1191240"/>
            <a:chOff x="457200" y="5105520"/>
            <a:chExt cx="3962520" cy="1191240"/>
          </a:xfrm>
        </p:grpSpPr>
        <p:sp>
          <p:nvSpPr>
            <p:cNvPr id="140" name=""/>
            <p:cNvSpPr/>
            <p:nvPr/>
          </p:nvSpPr>
          <p:spPr>
            <a:xfrm>
              <a:off x="457200" y="5230440"/>
              <a:ext cx="3962520" cy="1062720"/>
            </a:xfrm>
            <a:prstGeom prst="rightArrowCallout">
              <a:avLst>
                <a:gd name="adj1" fmla="val 19724"/>
                <a:gd name="adj2" fmla="val 28611"/>
                <a:gd name="adj3" fmla="val 64734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9520" y="5105520"/>
              <a:ext cx="295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 u="sng">
                  <a:solidFill>
                    <a:srgbClr val="000000"/>
                  </a:solidFill>
                  <a:uFillTx/>
                  <a:latin typeface="Arial"/>
                </a:rPr>
                <a:t>чк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7200" spc="-1" strike="noStrike" u="sng">
                  <a:solidFill>
                    <a:srgbClr val="000000"/>
                  </a:solidFill>
                  <a:uFillTx/>
                  <a:latin typeface="Arial"/>
                </a:rPr>
                <a:t>чн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510552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556272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9144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838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2362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й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809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кворе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н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ОЛЬШАЯ БУКВА В ИМЕНАХ  СОБ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838080"/>
            <a:ext cx="304812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на, отчества, фамил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21932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280" y="2438280"/>
            <a:ext cx="3048120" cy="45972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чки  животных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170000" cy="121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429000"/>
            <a:ext cx="304812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я городов, сёл, деревень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724280"/>
            <a:ext cx="304812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я рек, озер, мор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791320"/>
            <a:ext cx="297180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я звёзд, планет и др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352680" y="335268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14800" y="335268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581280" y="46483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886200" y="5867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тров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ь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в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лго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4876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ет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522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ЕЗУДАРНЫЕ 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437920" y="685800"/>
            <a:ext cx="16765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685800"/>
            <a:ext cx="1447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295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овер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1295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не провер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905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666880"/>
            <a:ext cx="3200400" cy="211320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b2edee"/>
              </a:gs>
              <a:gs pos="100000">
                <a:srgbClr val="7fe3e5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и слово так, чтобы ударение падало на эту бу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666880"/>
            <a:ext cx="3581280" cy="1015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80de80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отри сло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5627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а - тр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057040" y="556272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81280" y="556272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886200"/>
            <a:ext cx="30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ей                     ябл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696080" y="3962520"/>
            <a:ext cx="763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790960" y="4724280"/>
            <a:ext cx="7596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1027080" cy="152856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grammer</cp:lastModifiedBy>
  <dcterms:modified xsi:type="dcterms:W3CDTF">2009-11-16T19:0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